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4B35-CB5F-49BE-958E-33FC8506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8DA9-7F90-4337-9C99-B8CDD32C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84E-3208-470B-AC97-613209FB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A5DE-7E24-46A1-8543-C5E9A30B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E4E5-A84E-4322-A1A2-6376C684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C157-230A-4985-944F-281C74C4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D51A-0DB9-4F7D-A45F-003D3FB1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65CD-C3FC-42FE-BD2D-0F794B26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9C15-2C41-4357-A193-8C8F7CED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B832-C5E0-49FC-AF5B-E3D08CDF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1CFB-5EB9-4092-A217-E78AC9D0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F7E0-0606-42F9-AA30-8901B9E4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e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0582-CB97-4BF9-99B1-FDD1723C6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e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920" y="57909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e.SP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canal.jpg (20878 bytes)"/>
          <p:cNvPicPr/>
          <p:nvPr/>
        </p:nvPicPr>
        <p:blipFill>
          <a:blip r:embed="rId1"/>
          <a:stretch/>
        </p:blipFill>
        <p:spPr>
          <a:xfrm>
            <a:off x="1371600" y="380880"/>
            <a:ext cx="6324480" cy="5143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4755960" y="6583320"/>
            <a:ext cx="43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mage: http://www.mce.k12tn.net/nation_grows/lesson_1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e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2773440"/>
          </a:xfrm>
          <a:prstGeom prst="rect">
            <a:avLst/>
          </a:prstGeom>
          <a:solidFill>
            <a:srgbClr val="eeffcd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are writing a report about the kinds of work that people did in the early 1800s. You cannot find enough information in any of your Social Studies books. Wha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imar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rces could you use to get information?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eck all that apply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3352320"/>
            <a:ext cx="8534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riginals maps from the 1800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ooks from the libr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ext books from another cl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aries from a person living in the 1800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vernment records from the 1800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e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1706400"/>
          </a:xfrm>
          <a:prstGeom prst="rect">
            <a:avLst/>
          </a:prstGeom>
          <a:solidFill>
            <a:srgbClr val="eeffcd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eck each of the advantages of the canal as a form of transportation at the beginning of the Industrial Revolu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3048120"/>
            <a:ext cx="9448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fficiently transported raw material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fficiently transported manufactured go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used less pollution than automobi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st less than automobi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e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2133360"/>
          </a:xfrm>
          <a:prstGeom prst="rect">
            <a:avLst/>
          </a:prstGeom>
          <a:solidFill>
            <a:srgbClr val="eeffcd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entured servants were different from slaves because indentured servants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3048120"/>
            <a:ext cx="7467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me from the West Ind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ere freed at the end of their te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ere paid less mon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d much easier wor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e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0" descr="NAEP.jpg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6870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0" y="914400"/>
            <a:ext cx="3886200" cy="2478960"/>
          </a:xfrm>
          <a:prstGeom prst="rect">
            <a:avLst/>
          </a:prstGeom>
          <a:solidFill>
            <a:srgbClr val="eeffc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o you think that many towns were located near streams and rivers like Salmon Broo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lect all that ap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0160" y="3843360"/>
            <a:ext cx="5943600" cy="3019320"/>
          </a:xfrm>
          <a:prstGeom prst="rect">
            <a:avLst/>
          </a:prstGeom>
          <a:solidFill>
            <a:srgbClr val="99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vers provided a source of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vers provided a sourc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vers provided a sourc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vers provided a sourc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4960" y="30492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ok at the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01:39:43Z</dcterms:created>
  <dc:creator>Magner</dc:creator>
  <dc:description/>
  <dc:language>en-US</dc:language>
  <cp:lastModifiedBy>Magner</cp:lastModifiedBy>
  <dcterms:modified xsi:type="dcterms:W3CDTF">2009-08-30T22:05:39Z</dcterms:modified>
  <cp:revision>12</cp:revision>
  <dc:subject/>
  <dc:title>Slide 1</dc:title>
</cp:coreProperties>
</file>